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CE99-601C-42DC-BA17-0842F32AE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spend some time discussing 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.in your group….look at the Dawn Reithaug information regarding Tiers and assess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creens are being used in your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do use screens what is the data use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some time to explore Dawn’s suggestions for screeners –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chools/division wid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?Discussion?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 with 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be willing to work with a teacher….do a screen and then work with them to determine some small groupings (centers?)  Florida center reading….home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AF9-6BD2-410B-BF37-BCE248E5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3B4-63B6-4870-BE0C-D3F11B11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3E4-550A-498F-A6F9-0DD520D2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E60-8908-44FA-BDB2-F3FBC6D7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26B-5417-43BF-9921-6AA5744A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97F-A9CB-4574-A876-FF7270DB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571-9E95-4DBB-AA54-FCFD58C2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65F-97A2-4BB5-AD0C-77801713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9A8-FDBF-4A1A-B2D1-4B1E3988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69EA-BC82-45F6-98B6-F0A395E8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5AB-F647-4E6A-B523-61EA7B24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DDD-7704-4C01-AB1C-ABEB4741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0DD6-77C1-48E3-9CF0-8E9BA2FBF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eb.rbe.sk.ca/learningplus/diflearn/quiz.html" TargetMode="External"/><Relationship Id="rId2" Type="http://schemas.openxmlformats.org/officeDocument/2006/relationships/hyperlink" Target="http://web.rbe.sk.ca/learningplus/diflearn/quiz.html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 Grades Middle Yea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bruary 8,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nents of the              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3760" y="1371600"/>
            <a:ext cx="3429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o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and easy to admin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immediat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terp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administered more than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905120" y="1219320"/>
            <a:ext cx="358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ly occur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and ong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examine student performanc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adjust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s,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68280" y="2743200"/>
            <a:ext cx="1981080" cy="1371600"/>
            <a:chOff x="368280" y="2743200"/>
            <a:chExt cx="1981080" cy="1371600"/>
          </a:xfrm>
        </p:grpSpPr>
        <p:sp>
          <p:nvSpPr>
            <p:cNvPr id="105" name=""/>
            <p:cNvSpPr/>
            <p:nvPr/>
          </p:nvSpPr>
          <p:spPr>
            <a:xfrm>
              <a:off x="368280" y="2743200"/>
              <a:ext cx="1981080" cy="1371600"/>
            </a:xfrm>
            <a:custGeom>
              <a:avLst/>
              <a:gdLst>
                <a:gd name="textAreaLeft" fmla="*/ 309600 w 1981080"/>
                <a:gd name="textAreaRight" fmla="*/ 1733760 w 1981080"/>
                <a:gd name="textAreaTop" fmla="*/ 342720 h 1371600"/>
                <a:gd name="textAreaBottom" fmla="*/ 10288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1760" y="323064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sess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209680" y="4038480"/>
            <a:ext cx="3429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162920" y="457200"/>
            <a:ext cx="1193400" cy="1104840"/>
            <a:chOff x="7162920" y="457200"/>
            <a:chExt cx="1193400" cy="1104840"/>
          </a:xfrm>
        </p:grpSpPr>
        <p:sp>
          <p:nvSpPr>
            <p:cNvPr id="109" name=""/>
            <p:cNvSpPr/>
            <p:nvPr/>
          </p:nvSpPr>
          <p:spPr>
            <a:xfrm>
              <a:off x="7162920" y="457200"/>
              <a:ext cx="1180080" cy="110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69400" y="690480"/>
              <a:ext cx="118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 Instr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52920" y="3809880"/>
            <a:ext cx="3429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nents of the              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gathered from multiple sources (compreh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inform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 (anecdo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09840" y="19810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program attai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ement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 of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information on the program’s effi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315200" y="457200"/>
            <a:ext cx="1193400" cy="1104840"/>
            <a:chOff x="7315200" y="457200"/>
            <a:chExt cx="1193400" cy="1104840"/>
          </a:xfrm>
        </p:grpSpPr>
        <p:sp>
          <p:nvSpPr>
            <p:cNvPr id="116" name=""/>
            <p:cNvSpPr/>
            <p:nvPr/>
          </p:nvSpPr>
          <p:spPr>
            <a:xfrm>
              <a:off x="7315200" y="457200"/>
              <a:ext cx="1180080" cy="110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21680" y="690480"/>
              <a:ext cx="118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 Instr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68280" y="2743200"/>
            <a:ext cx="1981080" cy="1371600"/>
            <a:chOff x="368280" y="2743200"/>
            <a:chExt cx="1981080" cy="1371600"/>
          </a:xfrm>
        </p:grpSpPr>
        <p:sp>
          <p:nvSpPr>
            <p:cNvPr id="119" name=""/>
            <p:cNvSpPr/>
            <p:nvPr/>
          </p:nvSpPr>
          <p:spPr>
            <a:xfrm>
              <a:off x="368280" y="2743200"/>
              <a:ext cx="1981080" cy="1371600"/>
            </a:xfrm>
            <a:custGeom>
              <a:avLst/>
              <a:gdLst>
                <a:gd name="textAreaLeft" fmla="*/ 309600 w 1981080"/>
                <a:gd name="textAreaRight" fmla="*/ 1733760 w 1981080"/>
                <a:gd name="textAreaTop" fmla="*/ 342720 h 1371600"/>
                <a:gd name="textAreaBottom" fmla="*/ 10288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1760" y="323064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sess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D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en Hum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changed in your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ve you lear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Research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Stages of “Backward”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38080" y="1233360"/>
          <a:ext cx="8007480" cy="510696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age 1.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DENTIFY DESIRED RESUL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Stage 2. 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DETERMINE ACCEPTABLE EVID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tage 3</a:t>
                      </a: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. PLAN LEARNING EXPERIENCES / INSTR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tent Standards with focus on the enduring understand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33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Student assessment tas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Learning 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onstructivist      appro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ssential questi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33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Rubr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ctiviti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Key 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nowledge and Skill /Go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33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Other Evid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“</a:t>
                      </a:r>
                      <a:r>
                        <a:rPr b="0" i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Hands-on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01840" y="319320"/>
            <a:ext cx="81403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STAGE 2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: DETERMINE ACCEPTABLE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ey, complex perform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cative of  understan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ubr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used to assess complex perform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s should be credible and helpful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ATIONS: The assessments shoul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rounded in real-world appli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upplemented as needed by more traditional school evid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learner, b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nspa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nimize secre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alid, rel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ligned with the desired results of Stage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ed Instruction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 because the student “knows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”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of understanding is a greater challenge than evidence that the student knows a correct or valid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is inferred, not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can only be inferred if we see evidence that the student know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y (it works), how (to apply it)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just knowing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ecific in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ally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 when you ca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nd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essing fo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way to assess for understanding is vi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extualized perform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applying” in the broadest sense our knowledge and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is more than the sum of the drills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sing only conventional quizzes and tests is insufficient and as misleading as relying only on sideline drills to judge athletic performance 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of 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meli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267440" cy="3797280"/>
          </a:xfrm>
          <a:prstGeom prst="rect">
            <a:avLst/>
          </a:prstGeom>
          <a:ln w="316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981080" y="804240"/>
            <a:ext cx="5051160" cy="5862960"/>
            <a:chOff x="1981080" y="804240"/>
            <a:chExt cx="5051160" cy="5862960"/>
          </a:xfrm>
        </p:grpSpPr>
        <p:sp>
          <p:nvSpPr>
            <p:cNvPr id="56" name=""/>
            <p:cNvSpPr/>
            <p:nvPr/>
          </p:nvSpPr>
          <p:spPr>
            <a:xfrm>
              <a:off x="3695040" y="804240"/>
              <a:ext cx="1172520" cy="631440"/>
            </a:xfrm>
            <a:prstGeom prst="rect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a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acher’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response to a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rner’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e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95040" y="1706040"/>
              <a:ext cx="1172520" cy="631440"/>
            </a:xfrm>
            <a:prstGeom prst="rect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uided by the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ve Non-negotiab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22160" y="2608200"/>
              <a:ext cx="992160" cy="72108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lexible grou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85040" y="2608200"/>
              <a:ext cx="992160" cy="72108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inuous 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57920" y="2608200"/>
              <a:ext cx="992160" cy="72108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igh quality curricul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30440" y="2608200"/>
              <a:ext cx="901800" cy="72108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spectful tas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95040" y="3780360"/>
              <a:ext cx="1082160" cy="36108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rding to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udent’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38280" y="4141800"/>
              <a:ext cx="1082520" cy="36072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in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95040" y="4411800"/>
              <a:ext cx="1082160" cy="36108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rning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81080" y="4231800"/>
              <a:ext cx="1082160" cy="36072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es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95040" y="4953240"/>
              <a:ext cx="1082160" cy="361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acher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can differenti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95040" y="5584680"/>
              <a:ext cx="1082160" cy="270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31800" y="1435680"/>
              <a:ext cx="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161080" y="2337480"/>
              <a:ext cx="1533240" cy="3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424320" y="2337480"/>
              <a:ext cx="360720" cy="3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36120" y="2337480"/>
              <a:ext cx="0" cy="27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77200" y="2337480"/>
              <a:ext cx="360720" cy="3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67560" y="2337480"/>
              <a:ext cx="1352880" cy="3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36120" y="4141800"/>
              <a:ext cx="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063240" y="4051080"/>
              <a:ext cx="63144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7200" y="4051080"/>
              <a:ext cx="36072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36120" y="4773240"/>
              <a:ext cx="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882520" y="5313960"/>
              <a:ext cx="81180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36120" y="5313960"/>
              <a:ext cx="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87200" y="5313960"/>
              <a:ext cx="117252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49280" y="6036120"/>
              <a:ext cx="2074680" cy="450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rough a range of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structional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nd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ategi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such a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36120" y="5855400"/>
              <a:ext cx="36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36120" y="6486840"/>
              <a:ext cx="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447920" y="5638680"/>
            <a:ext cx="1371600" cy="34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5791320"/>
            <a:ext cx="1371600" cy="342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0"/>
            <a:ext cx="2743200" cy="685800"/>
          </a:xfrm>
          <a:prstGeom prst="beve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on of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666880"/>
            <a:ext cx="1371600" cy="9144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ve learn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14880" y="-1314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-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828800"/>
            <a:ext cx="8229600" cy="3415320"/>
          </a:xfrm>
          <a:prstGeom prst="rect">
            <a:avLst/>
          </a:prstGeom>
          <a:solidFill>
            <a:srgbClr val="ffffff">
              <a:alpha val="86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acher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lcom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Respectful of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-orien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Collab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wth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AS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uhaus 93"/>
              </a:rPr>
              <a:t>Supportive Learning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641840"/>
            <a:ext cx="8229600" cy="24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eliefs in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Physic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ebra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ckwell"/>
              </a:rPr>
              <a:t>                                                  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DI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ffol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Research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hings you should know about Quality Curriculm (discu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7:24:43Z</dcterms:created>
  <dc:creator>nancy.schultz</dc:creator>
  <dc:description/>
  <dc:language>en-US</dc:language>
  <cp:lastModifiedBy>nancy.schultz</cp:lastModifiedBy>
  <dcterms:modified xsi:type="dcterms:W3CDTF">2010-02-04T20:54:32Z</dcterms:modified>
  <cp:revision>4</cp:revision>
  <dc:subject/>
  <dc:title>DI Grades Middle Years Day 3 February 8, 2010</dc:title>
</cp:coreProperties>
</file>